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83CE-30B3-4111-B190-88E7E3A9F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5E3C-D79B-4344-863E-6A70C009A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B882-964C-45DF-BD73-B3C43CD9E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C461-97C9-4962-B023-3803099D2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10CF-3B7F-48CB-B78C-C4FA0E21F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25A8-100E-4068-AC49-4DF27FF20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5EDE-CCF6-4C33-90DA-F17943F57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B9DC-B3C5-4ABA-A6A7-84271F655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9961-7CF2-46B1-BFCA-676DEAFBD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BBC1-8D79-4796-BB3F-DAE0FE084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E22A-B7DA-47DC-90B1-A92A146F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BFAE-C31C-4D3C-8A5E-66F41119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6B9BA-0975-48D4-9D70-93DE950EFC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%5Bwallco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1116000" y="1413000"/>
            <a:ext cx="7489800" cy="25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600" spc="-1" strike="noStrike">
                <a:solidFill>
                  <a:srgbClr val="ff0000"/>
                </a:solidFill>
                <a:latin typeface="Arial"/>
                <a:ea typeface="隶书"/>
              </a:rPr>
              <a:t>我爱少先队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方正少儿简体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方正少儿简体"/>
              </a:rPr>
              <a:t>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方正少儿简体"/>
              </a:rPr>
              <a:t>*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方正少儿简体"/>
              </a:rPr>
              <a:t>年级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方正少儿简体"/>
              </a:rPr>
              <a:t>*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方正少儿简体"/>
              </a:rPr>
              <a:t>）班主题班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2065105_000427387_2"/>
          <p:cNvPicPr/>
          <p:nvPr/>
        </p:nvPicPr>
        <p:blipFill>
          <a:blip r:embed="rId2"/>
          <a:stretch/>
        </p:blipFill>
        <p:spPr>
          <a:xfrm>
            <a:off x="8153280" y="189000"/>
            <a:ext cx="990720" cy="1106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image001(3)"/>
          <p:cNvPicPr/>
          <p:nvPr/>
        </p:nvPicPr>
        <p:blipFill>
          <a:blip r:embed="rId3"/>
          <a:stretch/>
        </p:blipFill>
        <p:spPr>
          <a:xfrm>
            <a:off x="0" y="2852640"/>
            <a:ext cx="218916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18294036294_2"/>
          <p:cNvPicPr/>
          <p:nvPr/>
        </p:nvPicPr>
        <p:blipFill>
          <a:blip r:embed="rId1"/>
          <a:srcRect l="0" t="0" r="0" b="228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3"/>
          <p:cNvSpPr/>
          <p:nvPr/>
        </p:nvSpPr>
        <p:spPr>
          <a:xfrm>
            <a:off x="900000" y="2060640"/>
            <a:ext cx="7453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少先队队旗上的五角星代表中国共产党的领导，火炬象征光明，红旗象征革命胜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请判断正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3780000" y="551664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答案：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2065105_000427387_2"/>
          <p:cNvPicPr/>
          <p:nvPr/>
        </p:nvPicPr>
        <p:blipFill>
          <a:blip r:embed="rId2"/>
          <a:stretch/>
        </p:blipFill>
        <p:spPr>
          <a:xfrm>
            <a:off x="0" y="0"/>
            <a:ext cx="990720" cy="11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18294036294_2"/>
          <p:cNvPicPr/>
          <p:nvPr/>
        </p:nvPicPr>
        <p:blipFill>
          <a:blip r:embed="rId1"/>
          <a:srcRect l="0" t="0" r="0" b="228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3"/>
          <p:cNvSpPr/>
          <p:nvPr/>
        </p:nvSpPr>
        <p:spPr>
          <a:xfrm>
            <a:off x="934920" y="1989000"/>
            <a:ext cx="820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少先队建队日是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请判断正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3419640" y="4508640"/>
            <a:ext cx="40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答案：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2065105_000427387_2"/>
          <p:cNvPicPr/>
          <p:nvPr/>
        </p:nvPicPr>
        <p:blipFill>
          <a:blip r:embed="rId2"/>
          <a:stretch/>
        </p:blipFill>
        <p:spPr>
          <a:xfrm>
            <a:off x="324000" y="260280"/>
            <a:ext cx="990360" cy="11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18294036294_2"/>
          <p:cNvPicPr/>
          <p:nvPr/>
        </p:nvPicPr>
        <p:blipFill>
          <a:blip r:embed="rId1"/>
          <a:srcRect l="0" t="0" r="0" b="228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684360" y="1844640"/>
            <a:ext cx="7993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现在各种阅读资料丰富多彩，因此队报、队刊的订阅意义不大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请判断正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2916360" y="458136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答案：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2065105_000427387_2"/>
          <p:cNvPicPr/>
          <p:nvPr/>
        </p:nvPicPr>
        <p:blipFill>
          <a:blip r:embed="rId2"/>
          <a:stretch/>
        </p:blipFill>
        <p:spPr>
          <a:xfrm>
            <a:off x="468360" y="404640"/>
            <a:ext cx="990720" cy="11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18294036294_2"/>
          <p:cNvPicPr/>
          <p:nvPr/>
        </p:nvPicPr>
        <p:blipFill>
          <a:blip r:embed="rId1"/>
          <a:srcRect l="0" t="0" r="0" b="228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3"/>
          <p:cNvSpPr/>
          <p:nvPr/>
        </p:nvSpPr>
        <p:spPr>
          <a:xfrm>
            <a:off x="684360" y="765000"/>
            <a:ext cx="78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826920" y="2133720"/>
            <a:ext cx="76345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入队仪式不可以与中队或大队的其他活动合并举行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请判断正误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2843280" y="5013360"/>
            <a:ext cx="41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答案：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2065105_000427387_2"/>
          <p:cNvPicPr/>
          <p:nvPr/>
        </p:nvPicPr>
        <p:blipFill>
          <a:blip r:embed="rId2"/>
          <a:stretch/>
        </p:blipFill>
        <p:spPr>
          <a:xfrm>
            <a:off x="0" y="0"/>
            <a:ext cx="990720" cy="11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18294036294_2"/>
          <p:cNvPicPr/>
          <p:nvPr/>
        </p:nvPicPr>
        <p:blipFill>
          <a:blip r:embed="rId1"/>
          <a:srcRect l="0" t="0" r="0" b="228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"/>
          <p:cNvSpPr/>
          <p:nvPr/>
        </p:nvSpPr>
        <p:spPr>
          <a:xfrm>
            <a:off x="900000" y="1484280"/>
            <a:ext cx="78487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议一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我们怎样为组织增光添彩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2065105_000427387_2"/>
          <p:cNvPicPr/>
          <p:nvPr/>
        </p:nvPicPr>
        <p:blipFill>
          <a:blip r:embed="rId2"/>
          <a:stretch/>
        </p:blipFill>
        <p:spPr>
          <a:xfrm>
            <a:off x="0" y="0"/>
            <a:ext cx="990720" cy="11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2"/>
          <p:cNvPicPr/>
          <p:nvPr/>
        </p:nvPicPr>
        <p:blipFill>
          <a:blip r:embed="rId1"/>
          <a:srcRect l="0" t="3317" r="0" b="572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少先队队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009880" y="1509480"/>
            <a:ext cx="5256000" cy="47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</a:t>
            </a:r>
            <a:r>
              <a:rPr b="1" lang="zh-CN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我们是共产主义接班人</a:t>
            </a:r>
            <a:r>
              <a:rPr b="1" lang="en-US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, 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继承革命先辈的光荣传统</a:t>
            </a:r>
            <a:r>
              <a:rPr b="1" lang="en-US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, 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爱祖国爱人民</a:t>
            </a:r>
            <a:r>
              <a:rPr b="1" lang="en-US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, 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鲜艳的红领巾飘扬在前胸</a:t>
            </a:r>
            <a:r>
              <a:rPr b="1" lang="en-US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, 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不怕困难</a:t>
            </a:r>
            <a:r>
              <a:rPr b="1" lang="en-US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,</a:t>
            </a:r>
            <a:r>
              <a:rPr b="1" lang="zh-CN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不怕敌人</a:t>
            </a:r>
            <a:r>
              <a:rPr b="1" lang="en-US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, 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顽强学习</a:t>
            </a:r>
            <a:r>
              <a:rPr b="1" lang="en-US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,</a:t>
            </a:r>
            <a:r>
              <a:rPr b="1" lang="zh-CN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坚决斗争</a:t>
            </a:r>
            <a:r>
              <a:rPr b="1" lang="en-US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, 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向着胜利勇敢前进</a:t>
            </a:r>
            <a:r>
              <a:rPr b="1" lang="en-US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, 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向着胜利勇敢前进前进</a:t>
            </a:r>
            <a:r>
              <a:rPr b="1" lang="en-US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, 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向着胜利勇敢前进</a:t>
            </a:r>
            <a:r>
              <a:rPr b="1" lang="en-US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, 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我们是共产主义接班人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8" descr="2065105_000427387_2"/>
          <p:cNvPicPr/>
          <p:nvPr/>
        </p:nvPicPr>
        <p:blipFill>
          <a:blip r:embed="rId2"/>
          <a:stretch/>
        </p:blipFill>
        <p:spPr>
          <a:xfrm>
            <a:off x="0" y="0"/>
            <a:ext cx="990720" cy="11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2"/>
          <p:cNvPicPr/>
          <p:nvPr/>
        </p:nvPicPr>
        <p:blipFill>
          <a:blip r:embed="rId1"/>
          <a:srcRect l="0" t="3317" r="0" b="572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2514600" y="1328760"/>
            <a:ext cx="524520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我们是共产主义接班人</a:t>
            </a:r>
            <a:r>
              <a:rPr b="1" lang="en-US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, 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继承革命先辈的光荣路程</a:t>
            </a:r>
            <a:r>
              <a:rPr b="1" lang="en-US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, 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爱祖国爱人民</a:t>
            </a:r>
            <a:r>
              <a:rPr b="1" lang="en-US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, 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少先队员是我们骄傲的名称</a:t>
            </a:r>
            <a:r>
              <a:rPr b="1" lang="en-US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, 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时刻准备</a:t>
            </a:r>
            <a:r>
              <a:rPr b="1" lang="en-US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,</a:t>
            </a:r>
            <a:r>
              <a:rPr b="1" lang="zh-CN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建立功勋</a:t>
            </a:r>
            <a:r>
              <a:rPr b="1" lang="en-US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, 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要把敌人</a:t>
            </a:r>
            <a:r>
              <a:rPr b="1" lang="en-US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,</a:t>
            </a:r>
            <a:r>
              <a:rPr b="1" lang="zh-CN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消灭干净</a:t>
            </a:r>
            <a:r>
              <a:rPr b="1" lang="en-US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, 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为着理想勇敢前进</a:t>
            </a:r>
            <a:r>
              <a:rPr b="1" lang="en-US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, 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为着理想勇敢前进前进</a:t>
            </a:r>
            <a:r>
              <a:rPr b="1" lang="en-US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, 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为着理想勇敢前进</a:t>
            </a:r>
            <a:r>
              <a:rPr b="1" lang="en-US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, 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我们是共产主义接班人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8" descr="2065105_000427387_2"/>
          <p:cNvPicPr/>
          <p:nvPr/>
        </p:nvPicPr>
        <p:blipFill>
          <a:blip r:embed="rId2"/>
          <a:stretch/>
        </p:blipFill>
        <p:spPr>
          <a:xfrm>
            <a:off x="0" y="0"/>
            <a:ext cx="990720" cy="11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18294036294_2"/>
          <p:cNvPicPr/>
          <p:nvPr/>
        </p:nvPicPr>
        <p:blipFill>
          <a:blip r:embed="rId1"/>
          <a:srcRect l="0" t="0" r="0" b="228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3"/>
          <p:cNvSpPr/>
          <p:nvPr/>
        </p:nvSpPr>
        <p:spPr>
          <a:xfrm>
            <a:off x="2771640" y="1916280"/>
            <a:ext cx="381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队知识竞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2065105_000427387_2"/>
          <p:cNvPicPr/>
          <p:nvPr/>
        </p:nvPicPr>
        <p:blipFill>
          <a:blip r:embed="rId2"/>
          <a:stretch/>
        </p:blipFill>
        <p:spPr>
          <a:xfrm>
            <a:off x="0" y="0"/>
            <a:ext cx="990720" cy="11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18294036294_2"/>
          <p:cNvPicPr/>
          <p:nvPr/>
        </p:nvPicPr>
        <p:blipFill>
          <a:blip r:embed="rId1"/>
          <a:srcRect l="0" t="0" r="0" b="228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2484360" y="2133720"/>
            <a:ext cx="554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必答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2065105_000427387_2"/>
          <p:cNvPicPr/>
          <p:nvPr/>
        </p:nvPicPr>
        <p:blipFill>
          <a:blip r:embed="rId2"/>
          <a:stretch/>
        </p:blipFill>
        <p:spPr>
          <a:xfrm>
            <a:off x="0" y="0"/>
            <a:ext cx="990720" cy="11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18294036294_2"/>
          <p:cNvPicPr/>
          <p:nvPr/>
        </p:nvPicPr>
        <p:blipFill>
          <a:blip r:embed="rId1"/>
          <a:srcRect l="0" t="0" r="0" b="228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3"/>
          <p:cNvSpPr/>
          <p:nvPr/>
        </p:nvSpPr>
        <p:spPr>
          <a:xfrm>
            <a:off x="0" y="333360"/>
            <a:ext cx="914400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 我们队的创立者和领导者是（              ），党委托（                           ）直接领导我们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我们的队名是（                  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我们的队旗是（                        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我们的队礼是（                             ）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它代表（                                      ）。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3664080" y="2355840"/>
            <a:ext cx="24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中国少年先锋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6130800" y="37944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中国共产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1476360" y="86508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中国共产主义青年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3708360" y="376380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五角星加火炬的红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3451320" y="526896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右手五指并拢，高举头上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2070000" y="5989680"/>
            <a:ext cx="339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人民的利益高于一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18294036294_2"/>
          <p:cNvPicPr/>
          <p:nvPr/>
        </p:nvPicPr>
        <p:blipFill>
          <a:blip r:embed="rId1"/>
          <a:srcRect l="0" t="0" r="0" b="228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"/>
          <p:cNvSpPr/>
          <p:nvPr/>
        </p:nvSpPr>
        <p:spPr>
          <a:xfrm>
            <a:off x="179280" y="0"/>
            <a:ext cx="8640720" cy="62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我们的作风是（                            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我们的呼号是：呼“准备着，为共产主义事业而奋斗！”回答：“（                             ）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我们的标志是（              ），它代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         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中国少年先锋队成立于（            ）年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今年是建队（               ）周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3984480" y="8100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诚实、勇敢、活泼、团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5121360" y="2014560"/>
            <a:ext cx="207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时刻准备着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3865680" y="3435480"/>
            <a:ext cx="12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红领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1239840" y="4172040"/>
            <a:ext cx="19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红旗的一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5521320" y="489888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9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3084480" y="56498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6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18294036294_2"/>
          <p:cNvPicPr/>
          <p:nvPr/>
        </p:nvPicPr>
        <p:blipFill>
          <a:blip r:embed="rId1"/>
          <a:srcRect l="0" t="0" r="0" b="228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324000" y="260280"/>
            <a:ext cx="882000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少先队大队由几个中队组成？（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  2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个以上   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B 3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个以上    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C 6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个以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日开始实施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学生守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共有（       ）条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学生日常行为规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（       ）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少先队组织对少年儿童的入队年龄要求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 6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周岁    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B  7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周岁     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C  7-14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周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少先队员离队的年龄为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  12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岁   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B  13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岁   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C 14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岁   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D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小学毕业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1692360" y="2276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900000" y="2781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6877080" y="2060640"/>
            <a:ext cx="503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6875640" y="28404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5580000" y="5013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8472600" y="3500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18294036294_2"/>
          <p:cNvPicPr/>
          <p:nvPr/>
        </p:nvPicPr>
        <p:blipFill>
          <a:blip r:embed="rId1"/>
          <a:srcRect l="0" t="0" r="0" b="228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1763640" y="2060640"/>
            <a:ext cx="62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抢答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2065105_000427387_2"/>
          <p:cNvPicPr/>
          <p:nvPr/>
        </p:nvPicPr>
        <p:blipFill>
          <a:blip r:embed="rId2"/>
          <a:stretch/>
        </p:blipFill>
        <p:spPr>
          <a:xfrm>
            <a:off x="0" y="0"/>
            <a:ext cx="990720" cy="11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18294036294_2"/>
          <p:cNvPicPr/>
          <p:nvPr/>
        </p:nvPicPr>
        <p:blipFill>
          <a:blip r:embed="rId1"/>
          <a:srcRect l="0" t="0" r="0" b="228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684360" y="1700280"/>
            <a:ext cx="78483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下列活动哪些不属于队活动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访问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故事会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野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参观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担任小交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参加商场的开业典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3276720" y="522936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答案：（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2065105_000427387_2"/>
          <p:cNvPicPr/>
          <p:nvPr/>
        </p:nvPicPr>
        <p:blipFill>
          <a:blip r:embed="rId2"/>
          <a:stretch/>
        </p:blipFill>
        <p:spPr>
          <a:xfrm>
            <a:off x="0" y="0"/>
            <a:ext cx="990720" cy="11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18294036294_2"/>
          <p:cNvPicPr/>
          <p:nvPr/>
        </p:nvPicPr>
        <p:blipFill>
          <a:blip r:embed="rId1"/>
          <a:srcRect l="0" t="0" r="0" b="228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971640" y="1557360"/>
            <a:ext cx="763272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关于少先队干部标志以及红领巾，我们对队员的要求是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时时、处处要佩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重大节日要佩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由各中队自行决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3276720" y="558972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答案：（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2065105_000427387_2"/>
          <p:cNvPicPr/>
          <p:nvPr/>
        </p:nvPicPr>
        <p:blipFill>
          <a:blip r:embed="rId2"/>
          <a:stretch/>
        </p:blipFill>
        <p:spPr>
          <a:xfrm>
            <a:off x="0" y="0"/>
            <a:ext cx="990720" cy="11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08:06:55Z</dcterms:created>
  <dc:creator/>
  <dc:description/>
  <dc:language>en-US</dc:language>
  <cp:lastModifiedBy>cpzxsxz</cp:lastModifiedBy>
  <dcterms:modified xsi:type="dcterms:W3CDTF">2018-08-09T08:35:41Z</dcterms:modified>
  <cp:revision>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468</vt:lpwstr>
  </property>
</Properties>
</file>