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6.gif" ContentType="image/gif"/>
  <Override PartName="/ppt/media/image27.png" ContentType="image/png"/>
  <Override PartName="/ppt/media/image4.gif" ContentType="image/gif"/>
  <Override PartName="/ppt/media/image34.gif" ContentType="image/gif"/>
  <Override PartName="/ppt/media/image29.gif" ContentType="image/gif"/>
  <Override PartName="/ppt/media/image6.gif" ContentType="image/gif"/>
  <Override PartName="/ppt/media/image31.gif" ContentType="image/gif"/>
  <Override PartName="/ppt/media/image11.gif" ContentType="image/gif"/>
  <Override PartName="/ppt/media/image7.gif" ContentType="image/gif"/>
  <Override PartName="/ppt/media/image32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10.gif" ContentType="image/gif"/>
  <Override PartName="/ppt/media/image30.gif" ContentType="image/gif"/>
  <Override PartName="/ppt/media/image5.png" ContentType="image/png"/>
  <Override PartName="/ppt/media/image25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14.png" ContentType="image/png"/>
  <Override PartName="/ppt/media/image21.gif" ContentType="image/gif"/>
  <Override PartName="/ppt/media/image15.gif" ContentType="image/gif"/>
  <Override PartName="/ppt/media/image20.png" ContentType="image/png"/>
  <Override PartName="/ppt/media/image16.gif" ContentType="image/gif"/>
  <Override PartName="/ppt/media/image18.gif" ContentType="image/gif"/>
  <Override PartName="/ppt/media/image17.png" ContentType="image/png"/>
  <Override PartName="/ppt/media/image2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3AE-14A4-4C90-AC34-E43E671E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2F2-511E-4091-AF5C-764DDF4E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095-D4F0-4520-8870-478656AA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2D3-17B6-484C-87B2-F55557B9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08CF-CEE2-44D9-90AF-FF660703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ED56-BCD5-491F-BFDF-CC6D0E7F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CE14-B380-4A68-AC12-30B53B8C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D69A-1C87-4764-B47F-120E83E2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A9F0-E5CD-40AC-8220-82BE0913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6536-DFB5-4F9C-88C8-6C981F73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9148-381D-491F-9773-CD3B9A52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78B-9478-47DF-8B85-7699C2D4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44E3-0A27-4F1B-83D8-E01DEFFD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D2F4-9E50-4E8A-B10A-792B8762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6B12-82A4-44B9-BB58-FE7D5406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1EC0-34CA-4FDD-A54C-C4AC4959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E11B-67EC-4A33-8A74-F6B0608E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26D-F5CC-4B5D-9B67-8266EF7F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055-7220-4FAF-BC6F-7572B2CD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F1B-76DC-4D95-85C4-9AF16779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67E-006B-4FE3-A262-1DC98DC6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69BD-2424-47D8-B9CB-04AC4D5C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240-5DAE-478D-A410-C8B896E8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3BA-6B44-42DD-9227-15D33915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DFF5-6060-4FEE-860A-FF334407EB02}" type="slidenum"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2BDF-9C99-4A10-ADFE-84FDAD5A3CA3}" type="slidenum"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ZWZHEN05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2414520" y="219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  <a:ea typeface="隶书"/>
              </a:rPr>
              <a:t>安全教育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4572000" y="3867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方正姚体"/>
              </a:rPr>
              <a:t>主办单位：政教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4586400" y="46623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方正姚体"/>
              </a:rPr>
              <a:t>主       讲：班主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2590920" y="15177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  <a:ea typeface="隶书"/>
              </a:rPr>
              <a:t>       </a:t>
            </a: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隶书"/>
              </a:rPr>
              <a:t>中小学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隶书"/>
              </a:rPr>
              <a:t>自护自救安全常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2" descr="051（致敬）"/>
          <p:cNvPicPr/>
          <p:nvPr/>
        </p:nvPicPr>
        <p:blipFill>
          <a:blip r:embed="rId1"/>
          <a:stretch/>
        </p:blipFill>
        <p:spPr>
          <a:xfrm>
            <a:off x="985680" y="3200400"/>
            <a:ext cx="1476360" cy="2827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052（致敬）"/>
          <p:cNvPicPr/>
          <p:nvPr/>
        </p:nvPicPr>
        <p:blipFill>
          <a:blip r:embed="rId2"/>
          <a:stretch/>
        </p:blipFill>
        <p:spPr>
          <a:xfrm>
            <a:off x="6900840" y="3429000"/>
            <a:ext cx="1425600" cy="2523960"/>
          </a:xfrm>
          <a:prstGeom prst="rect">
            <a:avLst/>
          </a:prstGeom>
          <a:ln w="0">
            <a:noFill/>
          </a:ln>
        </p:spPr>
      </p:pic>
      <p:sp>
        <p:nvSpPr>
          <p:cNvPr id="189" name="WordArt 18"/>
          <p:cNvSpPr txBox="1"/>
          <p:nvPr/>
        </p:nvSpPr>
        <p:spPr>
          <a:xfrm>
            <a:off x="2838600" y="1766880"/>
            <a:ext cx="3352680" cy="17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谢谢</a:t>
            </a:r>
            <a:endParaRPr b="1" lang="en-US" sz="96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90" name="Picture 21" descr="FIREW1"/>
          <p:cNvPicPr/>
          <p:nvPr/>
        </p:nvPicPr>
        <p:blipFill>
          <a:blip r:embed="rId5"/>
          <a:stretch/>
        </p:blipFill>
        <p:spPr>
          <a:xfrm>
            <a:off x="533520" y="533520"/>
            <a:ext cx="3009960" cy="6019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FIREW1"/>
          <p:cNvPicPr/>
          <p:nvPr/>
        </p:nvPicPr>
        <p:blipFill>
          <a:blip r:embed="rId6"/>
          <a:stretch/>
        </p:blipFill>
        <p:spPr>
          <a:xfrm>
            <a:off x="5486400" y="609480"/>
            <a:ext cx="300996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28600" y="371520"/>
            <a:ext cx="8763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烫伤是生活中常常遇到的事故。在家庭生活中，最常见的是被热水、热油等烫伤。如何防止烫伤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从炉火上移动开水壶、热油锅时，应该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戴上手套用布衬垫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防止直接烫伤；端下的开水壶、热油锅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放在人不易碰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的地方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家长在炒菜、煎炸食品时，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不要在周围玩耍、打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以防被溅出的热油烫伤；年龄较大的同学在学习做菜时，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注意力要集中，不要把水滴到热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，否则热油遇水会飞溅起来，把人烫伤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油是易燃的，在高温下会燃烧，做菜时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防止油温过高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而起火。万一锅中的油起火，千万不要惊慌失措，应该尽快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用锅盖盖在锅上，并且将油锅迅速从炉火上移开或者熄灭炉火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家里的电熨斗、电暖器等发热的器具会使人烫伤，在使用中应当特别小心，尤其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不要随便去触摸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kk"/>
          <p:cNvPicPr/>
          <p:nvPr/>
        </p:nvPicPr>
        <p:blipFill>
          <a:blip r:embed="rId1"/>
          <a:stretch/>
        </p:blipFill>
        <p:spPr>
          <a:xfrm>
            <a:off x="8077320" y="6114960"/>
            <a:ext cx="83484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-76320" y="838080"/>
            <a:ext cx="9220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烫伤了怎么办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生活中发生烫伤，可以采取以下几种措施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对只有轻微红肿的轻度烫伤，可以用冷水反复冲洗，再涂些清凉油就行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烫伤部位已经起小水泡的，不要弄破它，可以在水泡周围涂擦酒精，用干净的纱布包扎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烫伤比较严重的，应当及时送医院进行诊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烫伤面积较大的，应尽快脱去衣裤、鞋袜，但不能强行撕脱，必要时应将衣物剪开；烫伤后，要特别注意烫伤部位的清洁，不能随意涂擦外用药品或代用品，防止受到感染，给医院的治疗增加困难。正确的方法是脱去患者的衣物后，用洁净的毛巾或床单进行包裹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005eac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903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8600" y="70488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受了外伤怎么办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受了外伤，比较严重的，需要送医院诊治。比较轻微的，可以按照下述方法来处理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出现伤口并且出血的，需要清洗伤口并擦涂消毒、消炎的外用药，如消炎粉、红药水、创可贴等。此外还要注意：保持伤口局部的温暖干燥；可多吃鸡蛋、瘦肉、豆类、乳类等蛋白质含量多的食品；适当服用维生素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或多吃些新鲜蔬菜和水果；合理换药，保持清洁。这样做，有利于伤口的痊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肌肉、关节、韧带等扭伤的，不能立即按摩或热敷，以免加重皮下出血，加剧肿胀。应当立即停止活动，使受伤部位充分休息，并且冷敷或用冷水浸泡。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至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以后，皮下出血停止再改用热敷，以促进消散瘀血，消除肿胀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005eac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28600" y="609480"/>
            <a:ext cx="8915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用高压锅做饭，节省时间和能源，许多家庭都使用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高压锅在使用时，锅里的温度高、压力大，所以安全问题十分重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使用高压锅之前，首先要</a:t>
            </a:r>
            <a:r>
              <a:rPr b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检查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锅盖的通气孔是不是通畅，安全阀是不是完好无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在使用中，</a:t>
            </a:r>
            <a:r>
              <a:rPr b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不要触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高压锅的压力阀，</a:t>
            </a:r>
            <a:r>
              <a:rPr b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更不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在压力阀上加压重物或者打开锅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饭菜做好以后，</a:t>
            </a:r>
            <a:r>
              <a:rPr b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不能马上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拿下压力阀或者打开锅盖，要耐心地等待锅里的高压热气释放出来后，才能拿下压力阀，打开锅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6400" y="473040"/>
            <a:ext cx="845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日常生活中经常需要使用菜刀、水果刀、剪刀等刀具，这些刀具锋利、尖锐，使用不慎，就可能造成伤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在使用刀具时应当注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fd0903"/>
                </a:solidFill>
                <a:latin typeface="宋体"/>
                <a:ea typeface="宋体"/>
              </a:rPr>
              <a:t>注意力集中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不用刀具比划、打闹，更不能拿着刀具互相开玩笑，以免误伤别人或自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刀具暂时不使用时，要</a:t>
            </a:r>
            <a:r>
              <a:rPr b="1" lang="zh-CN" sz="2800" spc="-1" strike="noStrike">
                <a:solidFill>
                  <a:srgbClr val="fd0903"/>
                </a:solidFill>
                <a:latin typeface="宋体"/>
                <a:ea typeface="宋体"/>
              </a:rPr>
              <a:t>妥善保存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起来，放在安全稳妥的地方，不要使刀具的尖和刃部突出、暴露在外，以防止刀具被碰落而伤人或者有人不慎触碰而受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42920" y="466560"/>
            <a:ext cx="8915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  人们通常把天然气、石油液化气、煤气等可燃性气体都叫做煤气。煤气给人们生活带来了许多方便，但如果使用不当，它也会造成灾难。使用煤气要注意以下几点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认真阅读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燃气器具等的使用说明，严格按照说明书的要求操作、使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使用人工点火的燃气灶具，在点火时，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要坚持“火等气”的原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即先将火源凑近灶具然后再开启气阀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保持燃气器具的完好，发现漏气，及时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检修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；使用过程中遇到漏气的情况，应该立即关闭总阀门，切断气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燃气器具在工作状态中，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人不能长时间离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以防止火被风吹灭或被锅中溢出的水浇灭，造成煤气大量泄漏而发生火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使用燃气器具（如煤气炉、燃气热水器等），应充分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保证室内的通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保持足够的氧气，防止煤气中毒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250920" y="549360"/>
            <a:ext cx="88390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随着生活水平的不断提高，生活中用电的地方越来越多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因此，我们有必要掌握以下最基本的安全用电常识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认识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电源总开关，学会在紧急情况下关断总电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手或导电物（如铁丝、钉子、别针等金属制品）去接触、探试电源插座内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湿手触摸电器，不用湿布擦拭电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电器使用完毕后应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拔掉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电源插头；插拔电源插头时不要用力拉拽电线，以防止电线的绝缘层受损造成触电；电线的绝缘皮剥落，要及时更换新线或者用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绝缘胶布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包好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发现有人触电要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设法及时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关断电源；或者用干燥的木棍等物将触电者与带电的电器分开，不要用手去直接救人；年龄小的同学遇到这种情况，应呼喊成年人相助，不要自己处理，以防触电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随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拆卸、安装电源线路、插座、插头等。哪怕安装灯泡等简单的事情，也要先关断电源，并在家长的指导下进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0"/>
            <a:ext cx="9144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如今，电视机、电冰箱、洗衣机、电风扇等家用电器越来越多地进入了家庭。使用家用电器，除了应该注意安全用电问题以外，还要注意以下几点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各种家用电器用途不同，使用方法也不同，有的比较复杂。一般的家用电器应当在家长的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指导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下学习使用，对危险性较大的电器则不要自己独自使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使用中发现电器有冒烟、冒火花、发出焦糊的异味等情况，应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立即关掉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电源开关，停止使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电吹风机、电饭锅、电熨斗、电暖器等电器在使用中会发出高热，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应注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将它们远离纸张、棉布等易燃物品，防止发生火灾；同时，使用时要注意避免烫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要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避免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潮湿的环境（如浴室）下使用电器，更不能使电器淋湿、受潮，这样不仅会损坏电器，还会发生触电危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电风扇的扇叶、洗衣机的脱水筒等在工作时是高速旋转的，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不能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用手或者其他物品去触摸，以防止受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遇到雷雨天气，要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停止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电视机并拔下室外天线插头，防止遭受雷击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电器长期搁置不用，容易因受潮、受腐蚀而损坏，重新使用前需要认真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检查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购买家用电器时，要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选择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质量可靠的合格产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98280" y="304920"/>
            <a:ext cx="85345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日常生活中要注意饮食卫生，否则就会传染疾病，危害健康，“病从口入”这句话讲的就是这个道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养成吃东西以前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洗手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习惯。人的双手每天干这干那，接触各种各样的东西，会沾染病菌、病毒和寄生虫卵。吃东西以前认真用肥皂洗净双手，才能减少“病从口入”的可能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生吃瓜果要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洗净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瓜果蔬菜在生长过程中不仅会沾染病菌、病毒、寄生虫卵，还有残留的农药、杀虫剂等，如果不清洗干净，不仅可能染上疾病，还可能造成农药中毒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随便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吃野菜、野果。野菜、野果的种类很多，其中有的含有对人体有害的毒素，缺乏经验的人很难辨别清楚，只有不随便吃野菜、野果，才能避免中毒，确保安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吃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腐烂变质的食物。食物腐烂变质，就会味道变酸、变苦；散发出异味儿，这是细菌大量繁殖引起的，吃了这些食物会造成食物中毒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随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购买、食用街头小摊贩出售的劣质食品、饮料。这些劣质食品、饮料往往卫生质量不合格，食用、饮用会危害健康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喝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生水。水是否干净，仅凭肉眼很难分清，清澈透明的水也可能含有病菌、病毒，喝开水最安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4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5"/>
          <p:cNvSpPr/>
          <p:nvPr/>
        </p:nvSpPr>
        <p:spPr>
          <a:xfrm>
            <a:off x="1981080" y="1295280"/>
            <a:ext cx="485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庭生活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9" descr="nonpic"/>
          <p:cNvPicPr/>
          <p:nvPr/>
        </p:nvPicPr>
        <p:blipFill>
          <a:blip r:embed="rId1"/>
          <a:stretch/>
        </p:blipFill>
        <p:spPr>
          <a:xfrm>
            <a:off x="1400040" y="1504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7"/>
          <p:cNvSpPr/>
          <p:nvPr/>
        </p:nvSpPr>
        <p:spPr>
          <a:xfrm>
            <a:off x="2019240" y="367668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防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0" descr="nonpic"/>
          <p:cNvPicPr/>
          <p:nvPr/>
        </p:nvPicPr>
        <p:blipFill>
          <a:blip r:embed="rId2"/>
          <a:stretch/>
        </p:blipFill>
        <p:spPr>
          <a:xfrm>
            <a:off x="1400040" y="377676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6"/>
          <p:cNvSpPr/>
          <p:nvPr/>
        </p:nvSpPr>
        <p:spPr>
          <a:xfrm>
            <a:off x="1971720" y="2109960"/>
            <a:ext cx="58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户外活动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1" descr="nonpic"/>
          <p:cNvPicPr/>
          <p:nvPr/>
        </p:nvPicPr>
        <p:blipFill>
          <a:blip r:embed="rId3"/>
          <a:stretch/>
        </p:blipFill>
        <p:spPr>
          <a:xfrm>
            <a:off x="1380960" y="2243160"/>
            <a:ext cx="490680" cy="4906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8"/>
          <p:cNvSpPr/>
          <p:nvPr/>
        </p:nvSpPr>
        <p:spPr>
          <a:xfrm>
            <a:off x="2014560" y="451476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社会生活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3" descr="nonpic"/>
          <p:cNvPicPr/>
          <p:nvPr/>
        </p:nvPicPr>
        <p:blipFill>
          <a:blip r:embed="rId4"/>
          <a:stretch/>
        </p:blipFill>
        <p:spPr>
          <a:xfrm>
            <a:off x="1380960" y="458640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0"/>
          <p:cNvSpPr/>
          <p:nvPr/>
        </p:nvSpPr>
        <p:spPr>
          <a:xfrm>
            <a:off x="2028960" y="5276880"/>
            <a:ext cx="67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发生自然灾害时的自护自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1" descr="nonpic"/>
          <p:cNvPicPr/>
          <p:nvPr/>
        </p:nvPicPr>
        <p:blipFill>
          <a:blip r:embed="rId5"/>
          <a:stretch/>
        </p:blipFill>
        <p:spPr>
          <a:xfrm>
            <a:off x="1428840" y="538164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7"/>
          <p:cNvSpPr/>
          <p:nvPr/>
        </p:nvSpPr>
        <p:spPr>
          <a:xfrm>
            <a:off x="1679040" y="4096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主要强调六方面的安全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8"/>
          <p:cNvSpPr/>
          <p:nvPr/>
        </p:nvSpPr>
        <p:spPr>
          <a:xfrm>
            <a:off x="2014560" y="2890800"/>
            <a:ext cx="25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交通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0" descr="nonpic"/>
          <p:cNvPicPr/>
          <p:nvPr/>
        </p:nvPicPr>
        <p:blipFill>
          <a:blip r:embed="rId6"/>
          <a:stretch/>
        </p:blipFill>
        <p:spPr>
          <a:xfrm>
            <a:off x="1414440" y="3038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2922120" y="260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怎样保证郊游、野营活动的安全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-38160" y="1268280"/>
            <a:ext cx="99392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要准备充足的食品和饮用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准备好手电筒和足够的电池，以便夜间照明使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准备一些常用的治疗感冒、外伤、中暑的药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要穿运动鞋或旅游鞋，不要穿皮鞋，穿皮鞋长途行走脚容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易磨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早晨夜晚天气较凉，要及时添加衣物，防止感冒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活动中不随便单独行动，应结伴而行，防止发生意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晚上注意充分休息，以保证有充足的精力参加活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不要随便采摘、食用蘑菇、野菜和野果，以免发生食物中毒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要有成年人组织、带领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819720" y="765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要注意以下几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4" descr="point1"/>
          <p:cNvPicPr/>
          <p:nvPr/>
        </p:nvPicPr>
        <p:blipFill>
          <a:blip r:embed="rId1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575800" y="1890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</a:rPr>
              <a:t>、游泳时应注意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04920" y="765000"/>
            <a:ext cx="83818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  游泳是一项十分有益的活动，同时也存在着危险。要保证安全，应该做到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游泳需要经过体格检查。患有心脏病、高血压、肺结核、中耳炎、皮肤病、严重沙眼等以及各种传染病的人不宜游泳。处在月经期的女同学也不宜去游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要慎重选择游泳场所，不要到江河湖海去游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下水前要做准备活动。可以跑跑步、做做操，活动开身体，还应用少量冷水冲洗一下躯干和四肢，这样可以使身体尽快适应水温，避免出现头晕、心慌、抽筋现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饱食或者饥饿时，剧烈运动和繁重劳动以后不要游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水下情况不明时，不要跳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发现有人溺水，不要贸然下水营救，应大声呼唤成年人前来相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link"/>
          <p:cNvPicPr/>
          <p:nvPr/>
        </p:nvPicPr>
        <p:blipFill>
          <a:blip r:embed="rId1"/>
          <a:stretch/>
        </p:blipFill>
        <p:spPr>
          <a:xfrm>
            <a:off x="900000" y="692280"/>
            <a:ext cx="6856560" cy="11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other9"/>
          <p:cNvPicPr/>
          <p:nvPr/>
        </p:nvPicPr>
        <p:blipFill>
          <a:blip r:embed="rId2"/>
          <a:stretch/>
        </p:blipFill>
        <p:spPr>
          <a:xfrm>
            <a:off x="457200" y="235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point1"/>
          <p:cNvPicPr/>
          <p:nvPr/>
        </p:nvPicPr>
        <p:blipFill>
          <a:blip r:embed="rId3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676440" y="409680"/>
            <a:ext cx="9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在游乐场活动应注意哪些安全问题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23920" y="1076400"/>
            <a:ext cx="87199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  近些年来，游乐业发展迅速，大大小小的游乐场遍布各地。去游乐场活动应注意的安全事项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最好有家长或老师带领，活动时要遵守游乐场的安全规定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要选择经国家检测合格、比较安全、正规的游乐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参加每一项活动，都要严格按规定采取保险措施。例如，系好安全带、锁好防护栏、不要开玩笑或冒险做出一些危险的举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患病或身体不适时，不要勉强参加活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other9"/>
          <p:cNvPicPr/>
          <p:nvPr/>
        </p:nvPicPr>
        <p:blipFill>
          <a:blip r:embed="rId1"/>
          <a:stretch/>
        </p:blipFill>
        <p:spPr>
          <a:xfrm>
            <a:off x="228600" y="380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point1"/>
          <p:cNvPicPr/>
          <p:nvPr/>
        </p:nvPicPr>
        <p:blipFill>
          <a:blip r:embed="rId2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193640" y="2001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泳时遇到意外怎么办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903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228600" y="122076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泳最容易遇到的意外有抽筋、陷入漩涡、被水草缠住等。万一发生了这些情况，应当采取下列自救方法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l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遇到意外要沉着镇静，不要惊慌，应当一面呼唤他人相助，一面设法自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游泳发生抽筋时，如果离岸很近，应立即出水，到岸上进行按摩；如果离岸较远，可以采取仰游姿式，仰浮在水面上尽量对抽筋的肢体进行牵引、按摩，以求缓解；如果自行救治不见效，就应尽量利用未抽筋的肢体划水靠岸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BD14868_"/>
          <p:cNvPicPr/>
          <p:nvPr/>
        </p:nvPicPr>
        <p:blipFill>
          <a:blip r:embed="rId1"/>
          <a:stretch/>
        </p:blipFill>
        <p:spPr>
          <a:xfrm>
            <a:off x="2666880" y="380880"/>
            <a:ext cx="373320" cy="3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30320" y="460440"/>
            <a:ext cx="876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游泳遇到水草，应以仰泳的姿式从原路游回。万一被水草缠住，不要乱蹦乱蹬，应仰浮在水面上．一手划水，一手解开水草，然后仰泳从原路游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游泳时陷入漩涡，可以吸气后潜入水下，并用力向外游，待游出漩涡中心再浮出水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游泳时如果出现体力不支、过度疲劳的情况，应停止游动，仰浮在水面上恢复体力，待体力恢复后及时返回岸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point1"/>
          <p:cNvPicPr/>
          <p:nvPr/>
        </p:nvPicPr>
        <p:blipFill>
          <a:blip r:embed="rId1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723680" y="856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血不止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3" descr="BD14868_"/>
          <p:cNvPicPr/>
          <p:nvPr/>
        </p:nvPicPr>
        <p:blipFill>
          <a:blip r:embed="rId1"/>
          <a:stretch/>
        </p:blipFill>
        <p:spPr>
          <a:xfrm>
            <a:off x="519120" y="174600"/>
            <a:ext cx="372960" cy="3729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144360" y="730080"/>
            <a:ext cx="886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同学们在玩耍时碰伤了身体，往往会流血不止，特别是鼻子最容易出血。出现这些情况，应该采取下列措施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四肢或手指出血，应该马上用一块干净的纱布或较宽的干净布条将伤口紧紧地包扎住，如有条件，最好洒一些云南白药在伤口上再包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如果是鼻子出血，可以把头抑起，用手指紧压住出血一侧的鼻根部，一直到不出血为止。如果有干净棉球，可以把棉球塞进鼻孔里压迫止血。另外，可以用冷水浇在后脑部，这样会使血管收缩，从而达到止血的目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point1"/>
          <p:cNvPicPr/>
          <p:nvPr/>
        </p:nvPicPr>
        <p:blipFill>
          <a:blip r:embed="rId2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1143000" y="1620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出时迷失了方向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3" descr="BD14868_"/>
          <p:cNvPicPr/>
          <p:nvPr/>
        </p:nvPicPr>
        <p:blipFill>
          <a:blip r:embed="rId1"/>
          <a:stretch/>
        </p:blipFill>
        <p:spPr>
          <a:xfrm>
            <a:off x="685800" y="304920"/>
            <a:ext cx="372960" cy="3729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457200" y="765000"/>
            <a:ext cx="8458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同学们独自外出到陌生的地方，可能会忘记或辨认不清来时的方向和路线而无法返回；和家人、同学等一起出行，也可能发生走失而迷路的情况。外出时迷失了方向怎么办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平时应当注意准确地记下自己家庭所在的地区、街道、门牌号码、电话号码及父母的工作单位名称、地址、电话号码等，以便需要联系时能够及时联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在城市迷了路，可以根据路标、路牌和公共汽（电）车的站牌辨认方向和路线，还可以向交通民警或治安巡逻民警求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在农村迷了路，应当尽量向公路、村庄靠近，争取当地村民的帮助。如果是在夜间，则可以循着灯光、狗叫声、公路上汽车的马达声寻找有人的地方求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如果迷失了方向，要沉着镇静，开动脑筋想办法，不要瞎闯乱跑，以免造成体力的过度消耗和意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5" descr="point1"/>
          <p:cNvPicPr/>
          <p:nvPr/>
        </p:nvPicPr>
        <p:blipFill>
          <a:blip r:embed="rId2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304920" y="304920"/>
            <a:ext cx="8610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行走时怎样注意交通安全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同学们上学和放学的时候，正是一天中道路交通最拥挤的时候，人多车辆多，必须十分注意交通安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在道路上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行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要走人行道；没有人行道的道路，要靠路边行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集体外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时，最好有组织、有秩序地列队行走；结伴外出时，不要相互追逐、打闹、嬉戏；行走时要专心，注意周围情况，不要东张西望、边走边看书报或做其他事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在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没有交通民警指挥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的路段，要学会避让机动车辆，不与机动车辆争道抢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在雾、雨、雪天，最好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穿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色彩鲜艳的衣服，以便于机动车司机尽早发现目标，提前采取安全措施。在一些城市中，小学生外出均头戴小黄帽，集体活动时还手持“让”字牌，也是为了使机动车及时发现、避让，这种做法应当提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3" descr="san3"/>
          <p:cNvPicPr/>
          <p:nvPr/>
        </p:nvPicPr>
        <p:blipFill>
          <a:blip r:embed="rId1"/>
          <a:stretch/>
        </p:blipFill>
        <p:spPr>
          <a:xfrm>
            <a:off x="7620120" y="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0054"/>
          <p:cNvPicPr/>
          <p:nvPr/>
        </p:nvPicPr>
        <p:blipFill>
          <a:blip r:embed="rId2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380880"/>
            <a:ext cx="8610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横穿马路应该注意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横穿马路，可能遇到的危险因素会大大增加，应特别注意安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穿越马路，要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听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交通民警的指挥；要遵守交通规则，做到“绿灯行，红灯停” 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穿越马路，要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走人行横道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线；在有过街天桥和过街地道的路段，应自觉走过街天桥和地下通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穿越马路时，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要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直线，不可迂回穿行；在没有人行横道的路段，应先看左边，再看右边，在确认没有机动车通过时才可以穿越马路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不要翻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道路中央的安全护栏和隔离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不要突然横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马路，特别是马路对面有熟人、朋友呼唤，或者自己要乘坐的公共汽车已经进站，千万不能贸然行事，以免发生意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3" descr="b-1"/>
          <p:cNvPicPr/>
          <p:nvPr/>
        </p:nvPicPr>
        <p:blipFill>
          <a:blip r:embed="rId1"/>
          <a:stretch/>
        </p:blipFill>
        <p:spPr>
          <a:xfrm>
            <a:off x="7391520" y="0"/>
            <a:ext cx="830160" cy="990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054"/>
          <p:cNvPicPr/>
          <p:nvPr/>
        </p:nvPicPr>
        <p:blipFill>
          <a:blip r:embed="rId2"/>
          <a:stretch/>
        </p:blipFill>
        <p:spPr>
          <a:xfrm>
            <a:off x="8381880" y="638964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4400" y="457200"/>
            <a:ext cx="924408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骑自行车要注意哪些安全事项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骑自行车外出比起走路，不安全的因素增加了，需要注意的安全事项如下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经常检修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自行车，保持车况完好。车闸、车铃是否灵敏、正常，尤其重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自行车的车型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大小要合适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不要骑儿童玩具车上街。也不要人小骑大型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马路上学骑自行车；未满十二岁的儿童，不要骑自行车上街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骑自行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在非机动车道上靠右边行驶，不逆行；转弯时不抢行猛拐，要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前减慢速度，看清四周情况，以明确的手势示意后再转弯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经过交叉路口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要减速慢行、注意来往的行人、车辆；不闯红灯，遇到红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停车等候，待绿灯亮了再继续前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骑车时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双手撒把，不多人并骑，不互相攀扶，不互相追逐、打闹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骑车时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不攀扶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机动车辆，不载过重的东西，不骑车带人，不在骑车时戴耳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听广播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学习、掌握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基本的交通规则知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3" descr="0054"/>
          <p:cNvPicPr/>
          <p:nvPr/>
        </p:nvPicPr>
        <p:blipFill>
          <a:blip r:embed="rId1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7"/>
          <p:cNvSpPr/>
          <p:nvPr/>
        </p:nvSpPr>
        <p:spPr>
          <a:xfrm>
            <a:off x="1066680" y="304920"/>
            <a:ext cx="56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家庭生活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>
            <a:off x="1752480" y="11001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防止烫伤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1728720" y="171936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使用高压锅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>
            <a:off x="1714680" y="2405160"/>
            <a:ext cx="48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使用刀具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2"/>
          <p:cNvSpPr/>
          <p:nvPr/>
        </p:nvSpPr>
        <p:spPr>
          <a:xfrm>
            <a:off x="1747800" y="3852720"/>
            <a:ext cx="41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用电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1724040" y="311004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使用煤气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4"/>
          <p:cNvSpPr/>
          <p:nvPr/>
        </p:nvSpPr>
        <p:spPr>
          <a:xfrm>
            <a:off x="1752480" y="4606920"/>
            <a:ext cx="48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使用电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35"/>
          <p:cNvSpPr/>
          <p:nvPr/>
        </p:nvSpPr>
        <p:spPr>
          <a:xfrm>
            <a:off x="1766880" y="5238720"/>
            <a:ext cx="68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日常生活中怎样注意饮食卫生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7" descr="line1"/>
          <p:cNvPicPr/>
          <p:nvPr/>
        </p:nvPicPr>
        <p:blipFill>
          <a:blip r:embed="rId1"/>
          <a:stretch/>
        </p:blipFill>
        <p:spPr>
          <a:xfrm>
            <a:off x="304920" y="6157800"/>
            <a:ext cx="8839080" cy="492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8" descr="arrow18"/>
          <p:cNvPicPr/>
          <p:nvPr/>
        </p:nvPicPr>
        <p:blipFill>
          <a:blip r:embed="rId2"/>
          <a:stretch/>
        </p:blipFill>
        <p:spPr>
          <a:xfrm>
            <a:off x="5715000" y="121932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9" descr="arrow18"/>
          <p:cNvPicPr/>
          <p:nvPr/>
        </p:nvPicPr>
        <p:blipFill>
          <a:blip r:embed="rId3"/>
          <a:stretch/>
        </p:blipFill>
        <p:spPr>
          <a:xfrm>
            <a:off x="6477120" y="1905120"/>
            <a:ext cx="761760" cy="38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0" descr="arrow18"/>
          <p:cNvPicPr/>
          <p:nvPr/>
        </p:nvPicPr>
        <p:blipFill>
          <a:blip r:embed="rId4"/>
          <a:stretch/>
        </p:blipFill>
        <p:spPr>
          <a:xfrm>
            <a:off x="6172200" y="259092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1" descr="arrow18"/>
          <p:cNvPicPr/>
          <p:nvPr/>
        </p:nvPicPr>
        <p:blipFill>
          <a:blip r:embed="rId5"/>
          <a:stretch/>
        </p:blipFill>
        <p:spPr>
          <a:xfrm>
            <a:off x="6172200" y="327672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2" descr="arrow18"/>
          <p:cNvPicPr/>
          <p:nvPr/>
        </p:nvPicPr>
        <p:blipFill>
          <a:blip r:embed="rId6"/>
          <a:stretch/>
        </p:blipFill>
        <p:spPr>
          <a:xfrm>
            <a:off x="5562720" y="3962520"/>
            <a:ext cx="76176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3" descr="arrow18"/>
          <p:cNvPicPr/>
          <p:nvPr/>
        </p:nvPicPr>
        <p:blipFill>
          <a:blip r:embed="rId7"/>
          <a:stretch/>
        </p:blipFill>
        <p:spPr>
          <a:xfrm>
            <a:off x="6224760" y="4724280"/>
            <a:ext cx="761760" cy="38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4" descr="arrow18"/>
          <p:cNvPicPr/>
          <p:nvPr/>
        </p:nvPicPr>
        <p:blipFill>
          <a:blip r:embed="rId8"/>
          <a:stretch/>
        </p:blipFill>
        <p:spPr>
          <a:xfrm>
            <a:off x="8153280" y="5391000"/>
            <a:ext cx="76212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39640" y="692280"/>
            <a:ext cx="8001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在雨天骑自行车怎样注意安全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骑车途中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  <a:ea typeface="宋体"/>
              </a:rPr>
              <a:t>遇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不要为了免遭雨淋而埋头猛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  <a:ea typeface="宋体"/>
              </a:rPr>
              <a:t>雨天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骑车，最好穿雨衣、雨披，不要一手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伞，一手扶把骑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  <a:ea typeface="宋体"/>
              </a:rPr>
              <a:t>雨天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道路泥泞湿滑，骑车要精力更加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中，随时准备应付突发情况，骑行的速度要比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常天气时慢些才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3" descr="0054"/>
          <p:cNvPicPr/>
          <p:nvPr/>
        </p:nvPicPr>
        <p:blipFill>
          <a:blip r:embed="rId1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282600" y="333360"/>
            <a:ext cx="856152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乘坐机动车应该注意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汽车、电车等机动车，是人们最常用的交通工具，为保证乘坐安全，应注意以下各点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乘坐公共汽（电）车，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要排队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候车，按先后顺序上车，不要拥挤。上下车均应等车停稳以后，先下后上，不要争抢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把汽油、爆竹等易燃易爆的危险品带入车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乘车时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把头、手、胳膊伸出窗外，以免被对面来车或路边树木等刮伤；也不要向车窗外乱扔杂物，以免伤及他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乘车时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坐稳扶好，没有座位时，要双脚自然分开，侧向站立，手应握紧扶手，以免车辆紧急刹车时摔倒受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乘坐小轿车、微型客车时，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应系好安全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尽量避免乘坐卡车、拖拉机；必须乘坐时，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千万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站立在后车厢里或坐在车厢板上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机动车道上招呼出租汽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" descr="0054"/>
          <p:cNvPicPr/>
          <p:nvPr/>
        </p:nvPicPr>
        <p:blipFill>
          <a:blip r:embed="rId1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61800" y="357120"/>
            <a:ext cx="861084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乘坐火车时怎样保证安全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按照车次的规定时间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进站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候车，以免误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站台上候车，要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站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站台一侧白色安全线以内，以免被列车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下站台，发生危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列车行进中，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把头、手、胳膊伸出车窗外，以免被沿线的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号设备等刮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车门和车厢连接处逗留．那里容易发生夹伤、扭伤、卡伤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事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易燃易爆的危险品（如汽油、鞭炮等）上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向车窗外扔废弃物，以免砸伤铁路边行人和铁路工人，同时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避免造成环境污染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乘坐卧铺列车，睡上、中铺要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挂好安全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防止掉下摔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保管好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自己的行李物品，注意防范盗窃分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3" descr="0054"/>
          <p:cNvPicPr/>
          <p:nvPr/>
        </p:nvPicPr>
        <p:blipFill>
          <a:blip r:embed="rId1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200160" y="380880"/>
            <a:ext cx="891540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乘船时要注意哪些安全事项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我国水域辽阔，人们外出旅行，会有很多机会乘船，船在水中航行，本身就存在遇到风浪等危险，所以乘船旅行的安全十分重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为了保证航运安全，凡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符合安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求的船只，有关管理部门都发有安全合格证书。外出旅行，不要乘坐无证船只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不乘坐超载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船只，这样的船安全没有保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上下船要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排队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按次序进行，不得拥挤、争抢，以免造成挤伤、落水等事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天气恶劣时，如遇大风、大浪、浓雾等，应尽量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避免乘船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不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船头、甲板等地打闹、追逐，以防落水。不拥挤在船的一侧，以防船体倾斜，发生事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船上的许多设备都与保证安全有关，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不要乱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以免影响正常航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夜间航行，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用手电筒向水面、岸边乱照，以免引起误会或使驾驶员产生错觉而发生危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一旦发生意外，要保持镇静，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听从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有关人员指挥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3" descr="sailing2 的副本 (2)"/>
          <p:cNvPicPr/>
          <p:nvPr/>
        </p:nvPicPr>
        <p:blipFill>
          <a:blip r:embed="rId1"/>
          <a:stretch/>
        </p:blipFill>
        <p:spPr>
          <a:xfrm>
            <a:off x="7391520" y="7920"/>
            <a:ext cx="1143000" cy="888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0054"/>
          <p:cNvPicPr/>
          <p:nvPr/>
        </p:nvPicPr>
        <p:blipFill>
          <a:blip r:embed="rId2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1959480" y="3319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四、消防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71520" y="10047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们的生活离不开火。但是火如果使用不当或者管理不好，就会发生火灾，严重威胁人们的生活，给人民的生命财产和国家的建设发展造成巨大损失。消防安全十分重要，消防工作包括两个方面：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是火灾的预防；二是灭火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对此，同学们都应该有所了解，并掌握一些基本知识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533520" y="60948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预防火灾应该注意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预防火灾的措施很多，同学们首先要从日常生活中的小事做起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不玩火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有的同学对火感到新奇，常常背着家长和老师做玩火的游戏，这是十分危险的。玩火时，一旦火势蔓延或者留下未熄灭的火种，容易引起火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不吸烟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吸烟危害身体健康，又容易诱发火灾，要遵守学生守则和学校的规章制度，坚决杜绝吸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爱护消防设施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为了预防火灾，防止火灾事故，居民楼、公共场所都设置了消防栓、灭火器、消防沙箱等消防设施，还留有供火灾发生时人员疏散的安全通道，要自觉爱护消防设施，保证安全通道的畅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ARROW1"/>
          <p:cNvPicPr/>
          <p:nvPr/>
        </p:nvPicPr>
        <p:blipFill>
          <a:blip r:embed="rId1"/>
          <a:stretch/>
        </p:blipFill>
        <p:spPr>
          <a:xfrm>
            <a:off x="7238880" y="594360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71280" y="69840"/>
            <a:ext cx="891540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在家中如何注意防火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家庭中的火灾常由用火不慎和使用电器不当引起，同学们要注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火炉取暖，火炉的安置应与易燃的木质家具等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保持安全距离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在农村，则要远离柴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烘烤衣物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有人看管，人不能长时间离开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火炉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存放易燃物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生火时，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煤油、汽油助燃，以防猛烈燃烧发生火灾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掏出的未熄灭的炉灰、煤渣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倒在安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地方，以防引起别的物体燃烧起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家用电器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符合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安全要求，不乱拆卸，以免造成安全性能下降，引发火灾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发热的电器（如电熨斗）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要小心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不可使其引燃易燃物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电器使用完毕或人离开时，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要及时关闭电源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以防电器过热而发生危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9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煤气器具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防止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煤气泄露，使用完毕应关闭气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0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煤气罐应远离火源使用；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定期检查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确保煤气设施及用具完好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ARROW1"/>
          <p:cNvPicPr/>
          <p:nvPr/>
        </p:nvPicPr>
        <p:blipFill>
          <a:blip r:embed="rId1"/>
          <a:stretch/>
        </p:blipFill>
        <p:spPr>
          <a:xfrm>
            <a:off x="7848720" y="5791320"/>
            <a:ext cx="1143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228600" y="60948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外出活动如何注意防火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 外出活动时，所处的环境比较复杂，在防火方面要做到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自觉遵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公共场所的防火安全规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一般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不要组织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野炊活动，确实需要组织的，要选择安全的地点和时间，并在老师的指导下用火，用火完毕，应确实熄灭火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不携带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火柴、打火机等火种和易燃易爆品进人林区、草原、自然保护区、风景名胜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自觉保护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公共场所的消防设施、设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自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按照防火的要求去做，同时还要监督、劝阻他人可能造成火灾隐患的行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发现异常情况，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及时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向老师或有关管理人员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报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ARROW1"/>
          <p:cNvPicPr/>
          <p:nvPr/>
        </p:nvPicPr>
        <p:blipFill>
          <a:blip r:embed="rId1"/>
          <a:stretch/>
        </p:blipFill>
        <p:spPr>
          <a:xfrm>
            <a:off x="80010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80880" y="380880"/>
            <a:ext cx="845820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发生火灾应如何报警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发现火灾发生，最重要的是报警，这样才能及时扑救，控制火势，减轻火灾造成损失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火警电话的号码是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119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这个号码应当牢记，在全国任何地区，向公安消防部门报告火警的电话号码都是一样的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发现火灾，可以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打电话直接报警。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家中没有电话的，要尽快使用邻居、电话亭或者附近单位的电话报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报火警时，要向消防部门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讲清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着火的单位或地点，讲清所处的区（县）、街道、胡同、门牌号码或乡村地址，还要讲清是什么物品着火，火势怎样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报警以后，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最好安排人员到附近的路口等候消防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指引通往火场的道路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不能随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拨打火警电话，假报火警是扰乱社会公共秩序的违法行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没有电话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情况下，应大声呼喊或采取其他方法引起邻居、行人注意，协助灭火或报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3" descr="ARROW1"/>
          <p:cNvPicPr/>
          <p:nvPr/>
        </p:nvPicPr>
        <p:blipFill>
          <a:blip r:embed="rId1"/>
          <a:stretch/>
        </p:blipFill>
        <p:spPr>
          <a:xfrm>
            <a:off x="80010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85680" y="509760"/>
            <a:ext cx="8915400" cy="51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对轻微的火情怎样紧急应付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形成火灾的，应及时报警。对突然发生的比较轻微的火情，同学们也应掌握简便易行的应付紧急情况的方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水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是最常用的灭火剂，木头、纸张、棉布等起火，可以直接用水扑灭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用土、沙子、浸湿的棉被或毛毯等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迅速覆盖在起火处，可以有效灭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用扫帚、拖把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等扑打，也能扑灭小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油类、酒精等起火，不可用水去扑救，可用沙土或浸湿的棉被迅速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盖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煤气起火，可用湿毛巾盖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火点，迅速切断气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电器起火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不可用水扑救，也不可用潮湿的物品捂盖。水是导体，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样做会发生触电。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正确的方法是首先切断电源，然后再灭火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有条件的，还可以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学习一些简易灭火器的使用方法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ARROW1"/>
          <p:cNvPicPr/>
          <p:nvPr/>
        </p:nvPicPr>
        <p:blipFill>
          <a:blip r:embed="rId1"/>
          <a:stretch/>
        </p:blipFill>
        <p:spPr>
          <a:xfrm>
            <a:off x="77724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066680" y="304920"/>
            <a:ext cx="56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户外活动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BELL8"/>
          <p:cNvPicPr/>
          <p:nvPr/>
        </p:nvPicPr>
        <p:blipFill>
          <a:blip r:embed="rId1"/>
          <a:stretch/>
        </p:blipFill>
        <p:spPr>
          <a:xfrm>
            <a:off x="7236000" y="3833640"/>
            <a:ext cx="211896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704880" y="1295280"/>
            <a:ext cx="819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怎样保证郊游、野营活动的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723960" y="2090880"/>
            <a:ext cx="55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游泳时应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709560" y="2895480"/>
            <a:ext cx="80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游乐场活动应注意哪些安全问题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728720" y="386244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泳时遇到意外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2521440" y="4653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血不止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763640" y="5445000"/>
            <a:ext cx="611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出时迷失了方向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80880" y="3854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自救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6" descr="WBB01SRG"/>
          <p:cNvPicPr/>
          <p:nvPr/>
        </p:nvPicPr>
        <p:blipFill>
          <a:blip r:embed="rId2"/>
          <a:stretch/>
        </p:blipFill>
        <p:spPr>
          <a:xfrm>
            <a:off x="7543800" y="1371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WBB01SRG"/>
          <p:cNvPicPr/>
          <p:nvPr/>
        </p:nvPicPr>
        <p:blipFill>
          <a:blip r:embed="rId3"/>
          <a:stretch/>
        </p:blipFill>
        <p:spPr>
          <a:xfrm>
            <a:off x="518148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WBB01SRG"/>
          <p:cNvPicPr/>
          <p:nvPr/>
        </p:nvPicPr>
        <p:blipFill>
          <a:blip r:embed="rId4"/>
          <a:stretch/>
        </p:blipFill>
        <p:spPr>
          <a:xfrm>
            <a:off x="792468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WBB01SRG"/>
          <p:cNvPicPr/>
          <p:nvPr/>
        </p:nvPicPr>
        <p:blipFill>
          <a:blip r:embed="rId5"/>
          <a:stretch/>
        </p:blipFill>
        <p:spPr>
          <a:xfrm>
            <a:off x="701028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WBB01SRG"/>
          <p:cNvPicPr/>
          <p:nvPr/>
        </p:nvPicPr>
        <p:blipFill>
          <a:blip r:embed="rId6"/>
          <a:stretch/>
        </p:blipFill>
        <p:spPr>
          <a:xfrm>
            <a:off x="5638680" y="4797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WBB01SRG"/>
          <p:cNvPicPr/>
          <p:nvPr/>
        </p:nvPicPr>
        <p:blipFill>
          <a:blip r:embed="rId7"/>
          <a:stretch/>
        </p:blipFill>
        <p:spPr>
          <a:xfrm>
            <a:off x="7380360" y="551664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80880" y="533520"/>
            <a:ext cx="8153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遭遇火灾如何正确脱险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遭遇火灾，应采取正确有效的方法自救逃生，减少人身伤亡损失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一旦身受火灾危胁，千万不要惊慌失措，要冷静地确定自己所处位置，根据周围的烟、火光、温度等分析判断火势，不要盲目采取行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身处平房的，如果门的周围火势不大，应迅速离开火场。反之，则必须另行选择出口脱身（如从窗口跳出），或者采取保护措施（如用水淋湿衣服、用温湿的棉被包住头部和上身等）以后再离开火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身处楼房的，发现火情不要盲目打开门窗，否则有可能引火入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身处楼房的，不要盲目乱跑、更不要跳楼逃生，这样会造成不应有的伤亡。可以躲到居室里或者阳台上。紧闭门窗，隔断火路，等待救援。有条件的，可以不断向门窗上浇水降温，以延缓火势蔓延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失火的楼房内，逃生不可使用电梯，应通过防火通道走楼梯脱险。因为失火后电梯竖井往往成为烟火的通道。并且电梯随时可能发生故障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3" descr="ARROW1"/>
          <p:cNvPicPr/>
          <p:nvPr/>
        </p:nvPicPr>
        <p:blipFill>
          <a:blip r:embed="rId1"/>
          <a:stretch/>
        </p:blipFill>
        <p:spPr>
          <a:xfrm>
            <a:off x="762012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16000" y="620640"/>
            <a:ext cx="87548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因火势太猛，必须从楼房内逃生的，可以从二层处跳下，但要选择不坚硬的地面，同时应从楼上先扔下被褥等增加地面的缓冲，然后再顺窗滑下，要尽量缩小下落高度，做到双脚先落地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有把握的情况下、可以将绳索（也可用床单等撕开连接起来）一头系在窗框上，然后顺绳索滑落到地面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逃生时。尽量采取保护措施，如用湿毛巾捂住口鼻、用湿衣物包裹身体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9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身上衣物着火，可以迅速脱掉衣物，或者就地滚动，以身体压灭火焰，还可以跳进附近的水池、小河中，将身上的火熄灭，总之要尽量减少身体烧伤面积，减轻烧伤程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0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火灾发生时，常会产生对人体有毒有害的气体，所以要预防烟毒，应尽量选择上风处停留或以湿的毛巾或口罩保护口、鼻及眼睛，避免有毒有害烟气侵害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430200" y="663480"/>
            <a:ext cx="826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、社会生活安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中小学生虽然年龄尚小，但已经不同程度地接触了社会。目前社会治安中仍然存在一些问题需要解决，社会上还存在违法犯罪现象，中小学生遭到不法分子侵害的情况也时有发生。所以，中小学生很有必要学会正确认识遇到的人和事，明辨是非，区分真善美和假恶丑，提高预防各种侵害的警惕性，消除对危险的麻痹和侥幸心理。同时也要树立自我防范意识，掌握一定的安全防范方法，增强自身的防范能力，使自己在遇到异常情况时，能够冷静、机智、勇敢地去应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619200" y="644400"/>
            <a:ext cx="807696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受到不法分子侵害如何报警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小学生受到违法犯罪分子的直接威胁和侵害，仅凭同学们自身的力量很难防范，最有效的方法就是向公安部门报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匪警电话的号码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这个号码应当牢记，以便发生异常情况时及时拨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拨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电话，要简明、准确地向公安部门报告案件发生的地点、时间、当事人、案情等内容，以公安部门及时派员处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打报警电话是事关社会治安管理的大事，千万不要随意拨打或以此开玩笑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RGREEN"/>
          <p:cNvPicPr/>
          <p:nvPr/>
        </p:nvPicPr>
        <p:blipFill>
          <a:blip r:embed="rId1"/>
          <a:stretch/>
        </p:blipFill>
        <p:spPr>
          <a:xfrm>
            <a:off x="7620120" y="6248520"/>
            <a:ext cx="114300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26"/>
          <p:cNvSpPr/>
          <p:nvPr/>
        </p:nvSpPr>
        <p:spPr>
          <a:xfrm>
            <a:off x="266760" y="160200"/>
            <a:ext cx="853452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怎样避免陌生人闯入家中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当同学们独自在家时，要注意避免陌生人进入而发生意想不到的危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独自在家，要锁好院门、防盗门、防护栏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如果有人敲门，千万不可盲目开门，应首先从门镜观察或隔门问清楚来人的身份，如果是陌生人，不应开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如果有人以推销员、修理工等身份要求开门，可以说明家中不需要这些服务，请其离开；如果有人以家长同事、朋友或者远方亲戚的身份要求开门，也不能轻信，可以请其待家长回家后再来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遇到陌生人不肯离去，坚持要进人室内的情况，可以声称要打电话报警，或者到阳台、窗口高声呼喊，向邻居、行人求援，以震慑迫使其离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不邀请不熟悉的人到家中做客，以防给坏人可乘之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1028" descr="RGREEN"/>
          <p:cNvPicPr/>
          <p:nvPr/>
        </p:nvPicPr>
        <p:blipFill>
          <a:blip r:embed="rId1"/>
          <a:stretch/>
        </p:blipFill>
        <p:spPr>
          <a:xfrm>
            <a:off x="7772400" y="657216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26"/>
          <p:cNvSpPr/>
          <p:nvPr/>
        </p:nvSpPr>
        <p:spPr>
          <a:xfrm>
            <a:off x="0" y="39996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外出或在公共场所自我防范要注意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外出或在公共场所，同学们遇到的社会情况会比较复杂，尤其需要提高警惕，在自我防范方面应当注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应当熟记自己的家庭住址、电话号码以及家长姓名、工作单位名称、地址、电话号码等，以便在急需联系时取得联系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外出要征得家长同意，并将自己的行程和大致返回的时间明确告诉家长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外出游玩、购物等最好结伴而行，不独来独往，单独行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接受陌生人的钱财、礼物、玩具、食品，与陌生人交谈要提高警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把家中房门钥匙挂在胸前或放在书包里，应放在衣袋里，以防丢失或被坏人抢走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独自往返偏僻的街巷、黑暗的地下通道，不独自一人去偏远的地方游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搭乘陌生人的便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8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外出的衣着朴素，不戴名牌手表和贵重饰物，不炫耀自己家庭的富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9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携带的钱物要妥善保存好，不委托陌生人代为照看自己携带的行李物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0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接受陌生人的邀请同行或做客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外出要按时回家，如有特殊情况不能按时返回，应告知家长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028" descr="RGREEN"/>
          <p:cNvPicPr/>
          <p:nvPr/>
        </p:nvPicPr>
        <p:blipFill>
          <a:blip r:embed="rId1"/>
          <a:stretch/>
        </p:blipFill>
        <p:spPr>
          <a:xfrm>
            <a:off x="8001000" y="6248520"/>
            <a:ext cx="114300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26"/>
          <p:cNvSpPr/>
          <p:nvPr/>
        </p:nvSpPr>
        <p:spPr>
          <a:xfrm>
            <a:off x="0" y="974880"/>
            <a:ext cx="9144000" cy="29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社会上一些不法分子为了某种目的，常会以中小学生作为侵害对象，遇到这种情况可以采取下列措施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l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发现被歹徒盯上，不能惊慌，要保持头脑清醒、镇定。同时，根据自己的体力和心理状态、周围情况、歹徒的动机来决定对策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只是被歹徒盯上，应迅速向附近的商店、繁华热闹的街道转移，那里人来人往，歹徒不敢胡作非为；还可以就近进入居民区求得帮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被歹徒纠缠，应高声喝令其走开，并以随身携带的雨伞和就地捡到的木棍、砖块等作防御，同时迅速跑向人多的地方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遇到拦路抢劫的歹徒，可以将身上少量的财物交给歹徒，应付周旋，同时仔细记下歹徒的相貌、身高、口音、衣着、逃离方向等情况，待事后立即向民警或公安部门报告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遇到凶恶的歹徒，自己又无法脱离危险，就一定要奋力反抗，免受伤害。反抗时，要大声呼喊以震慑歹徒；动作要突然迅速，打击歹徒的要害部位，在此过程中要不断寻找机会脱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应切记，不到迫不得已时不要轻易与歹徒发生正面冲突，最重要的是要运用智慧，随机应变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027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d418e8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028"/>
          <p:cNvSpPr/>
          <p:nvPr/>
        </p:nvSpPr>
        <p:spPr>
          <a:xfrm>
            <a:off x="4935960" y="25236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被歹徒盯上怎么办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1030" descr="RGREEN"/>
          <p:cNvPicPr/>
          <p:nvPr/>
        </p:nvPicPr>
        <p:blipFill>
          <a:blip r:embed="rId1"/>
          <a:stretch/>
        </p:blipFill>
        <p:spPr>
          <a:xfrm>
            <a:off x="7696080" y="657216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304920" y="457200"/>
            <a:ext cx="838188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小学生为什么不宜饮酒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有些同学受家庭和社会影响，学会了喝酒，有的甚至养成了喝酒的习惯，这是有害无益的。为什么中小学生不宜饮酒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同学们正处在生长期，身体各个器官还很娇嫩，尤其是消化系统。因此，不能过多地承受刺激性物质。酒具有刺激性，所含的酒精对肝、胃等的伤害更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喝酒会降低人的免疫力，酒后毛细血管扩张，散热增加，抵抗力下降，容易患感冒、肺炎等疾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饮酒过量会伤脑，使同学们记忆力下降，影响学习，严重的还会使智商下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据实验，中小学生饮酒还会对身体的发育带来不良后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3" descr="RGREEN"/>
          <p:cNvPicPr/>
          <p:nvPr/>
        </p:nvPicPr>
        <p:blipFill>
          <a:blip r:embed="rId1"/>
          <a:stretch/>
        </p:blipFill>
        <p:spPr>
          <a:xfrm>
            <a:off x="7620120" y="6248520"/>
            <a:ext cx="114300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538200"/>
            <a:ext cx="914400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小学生吸烟有什么害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小学生日常行为规范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明确要求在校学生不得吸烟，同学们应自觉遵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吸烟只是一种习惯，对人体有害无益。研究表明，吸烟时烟雾中有许多有害成分，对人体的呼吸道、心血管、神经系统、消化系统等都有不同程度的伤害。对中小学生来说，吸烟的危害更大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烟草在燃烧时会产生烟焦油，含有致癌物质，能诱发各种癌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烟草中的尼古丁是一种剧毒物质，对人的中枢神经有麻痹作用。长期吸烟，会引起心血管疾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吸烟不仅害己，还会污染环境，给他人带来更严重的危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吸烟者的死亡率比不吸烟者高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％，寿命也明显缩短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3" descr="RGREEN"/>
          <p:cNvPicPr/>
          <p:nvPr/>
        </p:nvPicPr>
        <p:blipFill>
          <a:blip r:embed="rId1"/>
          <a:stretch/>
        </p:blipFill>
        <p:spPr>
          <a:xfrm>
            <a:off x="7696080" y="657216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5"/>
          <p:cNvSpPr/>
          <p:nvPr/>
        </p:nvSpPr>
        <p:spPr>
          <a:xfrm>
            <a:off x="228600" y="457200"/>
            <a:ext cx="8610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怎样预防毒品的侵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近年来，吸毒、毒品犯罪正逐步成为我国一个严重的社会问题。通常所说的毒品包括鸦片、大麻、海洛因、可卡因等多种。毒品对人有刺激、麻痹作用，吸食容易上瘾；危害极大。在某些毒品泛滥的地区，中小学生已经成为毒品的直接受害者。预防毒品的危害，应当注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可以向家长、老师了解一些有关毒品的知识；提高识别能力，避免受骗上当而误吸毒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不听信任何人的教唆、引诱，坚决地拒绝尝试吸食毒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发现有关毒品的不法活动或可疑情况，应立即设法向家长、老师或公安部门报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457200" y="304920"/>
            <a:ext cx="1905120" cy="581400"/>
          </a:xfrm>
          <a:prstGeom prst="rect">
            <a:avLst/>
          </a:prstGeom>
          <a:solidFill>
            <a:srgbClr val="d418e8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37" descr="RGREEN"/>
          <p:cNvPicPr/>
          <p:nvPr/>
        </p:nvPicPr>
        <p:blipFill>
          <a:blip r:embed="rId1"/>
          <a:stretch/>
        </p:blipFill>
        <p:spPr>
          <a:xfrm>
            <a:off x="7620120" y="617220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464560" y="3380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、交通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295280" y="1100160"/>
            <a:ext cx="60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行走时怎样注意交通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271520" y="1719360"/>
            <a:ext cx="59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横穿马路应该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257480" y="2405160"/>
            <a:ext cx="68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骑自行车要注意哪些安全事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290600" y="3852720"/>
            <a:ext cx="64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乘坐机动车应该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266840" y="3110040"/>
            <a:ext cx="72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雨天骑自行车怎样注意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295280" y="460692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乘坐火车时怎样保证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309680" y="5238720"/>
            <a:ext cx="657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乘船时要注意哪些安全事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7" descr="image001"/>
          <p:cNvPicPr/>
          <p:nvPr/>
        </p:nvPicPr>
        <p:blipFill>
          <a:blip r:embed="rId1"/>
          <a:stretch/>
        </p:blipFill>
        <p:spPr>
          <a:xfrm>
            <a:off x="7010280" y="114300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image001"/>
          <p:cNvPicPr/>
          <p:nvPr/>
        </p:nvPicPr>
        <p:blipFill>
          <a:blip r:embed="rId2"/>
          <a:stretch/>
        </p:blipFill>
        <p:spPr>
          <a:xfrm>
            <a:off x="6553080" y="175248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image001"/>
          <p:cNvPicPr/>
          <p:nvPr/>
        </p:nvPicPr>
        <p:blipFill>
          <a:blip r:embed="rId3"/>
          <a:stretch/>
        </p:blipFill>
        <p:spPr>
          <a:xfrm>
            <a:off x="7772400" y="243828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image001"/>
          <p:cNvPicPr/>
          <p:nvPr/>
        </p:nvPicPr>
        <p:blipFill>
          <a:blip r:embed="rId4"/>
          <a:stretch/>
        </p:blipFill>
        <p:spPr>
          <a:xfrm>
            <a:off x="8158320" y="3152880"/>
            <a:ext cx="457200" cy="487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image001"/>
          <p:cNvPicPr/>
          <p:nvPr/>
        </p:nvPicPr>
        <p:blipFill>
          <a:blip r:embed="rId5"/>
          <a:stretch/>
        </p:blipFill>
        <p:spPr>
          <a:xfrm>
            <a:off x="6934320" y="392904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image001"/>
          <p:cNvPicPr/>
          <p:nvPr/>
        </p:nvPicPr>
        <p:blipFill>
          <a:blip r:embed="rId6"/>
          <a:stretch/>
        </p:blipFill>
        <p:spPr>
          <a:xfrm>
            <a:off x="7010280" y="4648320"/>
            <a:ext cx="457200" cy="48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image001"/>
          <p:cNvPicPr/>
          <p:nvPr/>
        </p:nvPicPr>
        <p:blipFill>
          <a:blip r:embed="rId7"/>
          <a:stretch/>
        </p:blipFill>
        <p:spPr>
          <a:xfrm>
            <a:off x="7391520" y="525780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5" descr="divider138"/>
          <p:cNvPicPr/>
          <p:nvPr/>
        </p:nvPicPr>
        <p:blipFill>
          <a:blip r:embed="rId8"/>
          <a:stretch/>
        </p:blipFill>
        <p:spPr>
          <a:xfrm>
            <a:off x="880920" y="6126120"/>
            <a:ext cx="7848720" cy="34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0"/>
          <p:cNvSpPr/>
          <p:nvPr/>
        </p:nvSpPr>
        <p:spPr>
          <a:xfrm>
            <a:off x="88920" y="442800"/>
            <a:ext cx="88200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六、发生自然灾害时的自护自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自然灾害是指洪水、地震、台风等自然现象给人类造成的灾害。以目前人类的科学技术水平和能力，人们还无法阻止自然灾害的发生．也无法完全抵御自然灾害的破坏。但是完全可以根据自然灾害发生的规律和特点，采取积极有效的措施，尽量地减少损失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318960" y="533520"/>
            <a:ext cx="861084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地震发生时怎样保护自己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强烈的地震，常会造成房屋倒塌、大堤决口、大地陷裂等情况，给人民的生命和财产带来损失。为了在地震发生时保护自己。应当掌握以下应急的求生方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如果在平房里，突然发生地震，要迅速钻到床下、桌下，同时用被褥、枕头、脸盆等物护住头部，等地震间隙再尽快离开住房，转移到安全的地方。地震时如果房屋倒塌，应呆在床下或桌下千万不要移动，要等到地震停止再进出室外或等待救援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如果住在楼房中，发生了地震，不要试图跑出楼外，因为时间来不及。最安全、最有效的办法是及时躲到两个承重墙之间最小的房间，如厕所、厨房等。也可以躲在桌、柜等家具下面以及房间内侧的墙角，并且注意保护好头部。千万不要去阳台和窗下躲避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如果正在上课时发生了地震，不要惊慌失措，更不能在教室内乱跑或争抢外出。靠近门的同学可以迅速跑到门外，中间及后排的同学可以尽快躲到课桌下，用书包护住头部；靠墙的同学要紧靠墙根，双手护住头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457200" y="304920"/>
            <a:ext cx="190512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57200" y="1143000"/>
            <a:ext cx="815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己经离开房间，千万不要地震一停就立即回屋取东西。因为第一次地震后，接着会发生余震，余震对人的威胁会更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在公共场所发生地震，不能惊慌乱跑。可以随机应变躲到就近比较安全的地方，如桌柜下、舞台下、乐池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6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正在街上，绝对不能跑进建筑物中避险。也不要在高楼下、广告牌下、狭窄的胡同、桥头等危险地方停留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7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地震后被埋在建筑物中，应先设法清除压在腹部以上的物体；用毛巾、衣服捂住口鼻，防止烟尘窒息；要注意保存体力、设法找到食品和水，创造生存条件，等待救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3" descr="FWARROW3"/>
          <p:cNvPicPr/>
          <p:nvPr/>
        </p:nvPicPr>
        <p:blipFill>
          <a:blip r:embed="rId1"/>
          <a:stretch/>
        </p:blipFill>
        <p:spPr>
          <a:xfrm>
            <a:off x="7924680" y="6318360"/>
            <a:ext cx="68580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228600" y="216000"/>
            <a:ext cx="868680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怎样减轻热带风暴的危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热带风暴经常发生在沿海地区，热带风暴引起狂风、暴雨、巨浪，对沿海城市设施、出海船只和沿海地区的农业生产具有强大的破坏力。怎样减轻热带风暴对人自身的危害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注意收听有关天气预报，做好预防准备工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房屋需要加固的部位及时加固，关好门窗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准备好食品、饮用水、照明灯具、雨具及必需的药品，预防不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4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疏通泄水、排水设施，保持通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5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热带风暴到来时，要尽可能呆在室内，减少外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6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遇有大风雷电时，要谨慎使用电器，严防触电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7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密切注意周围环境，在出现洪水泛滥、山体滑坡等危及住房安全的情况时，要及时转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8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风暴过后，要注意卫生防疫，减少疾病传播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3" descr="FWARROW3"/>
          <p:cNvPicPr/>
          <p:nvPr/>
        </p:nvPicPr>
        <p:blipFill>
          <a:blip r:embed="rId1"/>
          <a:stretch/>
        </p:blipFill>
        <p:spPr>
          <a:xfrm>
            <a:off x="7924680" y="6095880"/>
            <a:ext cx="685800" cy="5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80880" y="257040"/>
            <a:ext cx="8382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外出时如何避免遭受雷击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雷电是常见的自然现象，它实质上是天空中雷暴云中的火花放电，放电时产生的光是闪电，闪电使空气受热迅速膨胀而发出的巨大声响是雷声，雷雨天容易遭受雷击，致人受伤甚至死亡。避免雷击应当做到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外出时遇到雷雨天气，要及时躲避，不要在空旷的野外停留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雷电交加时，如果在空旷的野外无处躲避，应该尽量寻找低凹地（如土坑）藏身，或者立即下蹲、双脚并拢、双臂抱膝、头部下俯，尽量降低身体的高度。如果手中有导电的物体（如铁锹、金属杆雨伞），要迅速抛到远处，千万不能拿着这些物品在旷野中奔跑，否则会成为雷击的目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特别要小心的是，遇到雷电时，一定不能到高耸的物体（如旗杆、大树、烟囱、电杆）下站立；这些地方最容易遭遇雷击危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457200" y="304920"/>
            <a:ext cx="190512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4" descr="FWARROW3"/>
          <p:cNvPicPr/>
          <p:nvPr/>
        </p:nvPicPr>
        <p:blipFill>
          <a:blip r:embed="rId1"/>
          <a:stretch/>
        </p:blipFill>
        <p:spPr>
          <a:xfrm>
            <a:off x="8001000" y="6318360"/>
            <a:ext cx="68580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26"/>
          <p:cNvSpPr/>
          <p:nvPr/>
        </p:nvSpPr>
        <p:spPr>
          <a:xfrm>
            <a:off x="1797120" y="338040"/>
            <a:ext cx="177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四、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防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027"/>
          <p:cNvSpPr/>
          <p:nvPr/>
        </p:nvSpPr>
        <p:spPr>
          <a:xfrm>
            <a:off x="1295280" y="1209600"/>
            <a:ext cx="56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预防火灾应该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28"/>
          <p:cNvSpPr/>
          <p:nvPr/>
        </p:nvSpPr>
        <p:spPr>
          <a:xfrm>
            <a:off x="1295280" y="191628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家中如何注意防火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029"/>
          <p:cNvSpPr/>
          <p:nvPr/>
        </p:nvSpPr>
        <p:spPr>
          <a:xfrm>
            <a:off x="1297080" y="2637000"/>
            <a:ext cx="59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外出活动如何注意防火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30"/>
          <p:cNvSpPr/>
          <p:nvPr/>
        </p:nvSpPr>
        <p:spPr>
          <a:xfrm>
            <a:off x="1262160" y="4076640"/>
            <a:ext cx="62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对轻微的火情怎样紧急应付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031"/>
          <p:cNvSpPr/>
          <p:nvPr/>
        </p:nvSpPr>
        <p:spPr>
          <a:xfrm>
            <a:off x="866880" y="3357720"/>
            <a:ext cx="57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发生火灾应如何报警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32"/>
          <p:cNvSpPr/>
          <p:nvPr/>
        </p:nvSpPr>
        <p:spPr>
          <a:xfrm>
            <a:off x="1295280" y="4797360"/>
            <a:ext cx="56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遭遇火灾如何正确脱险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41" descr="image52"/>
          <p:cNvPicPr/>
          <p:nvPr/>
        </p:nvPicPr>
        <p:blipFill>
          <a:blip r:embed="rId1"/>
          <a:stretch/>
        </p:blipFill>
        <p:spPr>
          <a:xfrm>
            <a:off x="67816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42" descr="image52"/>
          <p:cNvPicPr/>
          <p:nvPr/>
        </p:nvPicPr>
        <p:blipFill>
          <a:blip r:embed="rId2"/>
          <a:stretch/>
        </p:blipFill>
        <p:spPr>
          <a:xfrm>
            <a:off x="64008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43" descr="image52"/>
          <p:cNvPicPr/>
          <p:nvPr/>
        </p:nvPicPr>
        <p:blipFill>
          <a:blip r:embed="rId3"/>
          <a:stretch/>
        </p:blipFill>
        <p:spPr>
          <a:xfrm>
            <a:off x="670572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44" descr="image52"/>
          <p:cNvPicPr/>
          <p:nvPr/>
        </p:nvPicPr>
        <p:blipFill>
          <a:blip r:embed="rId4"/>
          <a:stretch/>
        </p:blipFill>
        <p:spPr>
          <a:xfrm>
            <a:off x="61722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45" descr="image52"/>
          <p:cNvPicPr/>
          <p:nvPr/>
        </p:nvPicPr>
        <p:blipFill>
          <a:blip r:embed="rId5"/>
          <a:stretch/>
        </p:blipFill>
        <p:spPr>
          <a:xfrm>
            <a:off x="731520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46" descr="image52"/>
          <p:cNvPicPr/>
          <p:nvPr/>
        </p:nvPicPr>
        <p:blipFill>
          <a:blip r:embed="rId6"/>
          <a:stretch/>
        </p:blipFill>
        <p:spPr>
          <a:xfrm>
            <a:off x="670572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47" descr="fg1"/>
          <p:cNvPicPr/>
          <p:nvPr/>
        </p:nvPicPr>
        <p:blipFill>
          <a:blip r:embed="rId7"/>
          <a:stretch/>
        </p:blipFill>
        <p:spPr>
          <a:xfrm>
            <a:off x="1028880" y="5867280"/>
            <a:ext cx="7200720" cy="3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26"/>
          <p:cNvSpPr/>
          <p:nvPr/>
        </p:nvSpPr>
        <p:spPr>
          <a:xfrm>
            <a:off x="762120" y="380880"/>
            <a:ext cx="539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、社会生活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027"/>
          <p:cNvSpPr/>
          <p:nvPr/>
        </p:nvSpPr>
        <p:spPr>
          <a:xfrm>
            <a:off x="3488040" y="129528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受到不法分子侵害如何报警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028"/>
          <p:cNvSpPr/>
          <p:nvPr/>
        </p:nvSpPr>
        <p:spPr>
          <a:xfrm>
            <a:off x="3281760" y="198108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怎样避免陌生人闯入家中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029"/>
          <p:cNvSpPr/>
          <p:nvPr/>
        </p:nvSpPr>
        <p:spPr>
          <a:xfrm>
            <a:off x="762120" y="2700360"/>
            <a:ext cx="78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外出或在公共场所自我防范要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030"/>
          <p:cNvSpPr/>
          <p:nvPr/>
        </p:nvSpPr>
        <p:spPr>
          <a:xfrm>
            <a:off x="762120" y="335448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被歹徒盯上怎么办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031"/>
          <p:cNvSpPr/>
          <p:nvPr/>
        </p:nvSpPr>
        <p:spPr>
          <a:xfrm>
            <a:off x="762120" y="4002120"/>
            <a:ext cx="60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小学生为什么不宜饮酒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032"/>
          <p:cNvSpPr/>
          <p:nvPr/>
        </p:nvSpPr>
        <p:spPr>
          <a:xfrm>
            <a:off x="762120" y="4662360"/>
            <a:ext cx="62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小学生吸烟有什么害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033"/>
          <p:cNvSpPr/>
          <p:nvPr/>
        </p:nvSpPr>
        <p:spPr>
          <a:xfrm>
            <a:off x="762120" y="5400720"/>
            <a:ext cx="56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怎样预防毒品的侵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034" descr="鱼"/>
          <p:cNvPicPr/>
          <p:nvPr/>
        </p:nvPicPr>
        <p:blipFill>
          <a:blip r:embed="rId1"/>
          <a:stretch/>
        </p:blipFill>
        <p:spPr>
          <a:xfrm>
            <a:off x="6780240" y="1357200"/>
            <a:ext cx="425520" cy="457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35" descr="鱼"/>
          <p:cNvPicPr/>
          <p:nvPr/>
        </p:nvPicPr>
        <p:blipFill>
          <a:blip r:embed="rId2"/>
          <a:stretch/>
        </p:blipFill>
        <p:spPr>
          <a:xfrm>
            <a:off x="8562960" y="2590920"/>
            <a:ext cx="534960" cy="57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36" descr="鱼"/>
          <p:cNvPicPr/>
          <p:nvPr/>
        </p:nvPicPr>
        <p:blipFill>
          <a:blip r:embed="rId3"/>
          <a:stretch/>
        </p:blipFill>
        <p:spPr>
          <a:xfrm>
            <a:off x="5148360" y="3327480"/>
            <a:ext cx="496800" cy="533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37" descr="鱼"/>
          <p:cNvPicPr/>
          <p:nvPr/>
        </p:nvPicPr>
        <p:blipFill>
          <a:blip r:embed="rId4"/>
          <a:stretch/>
        </p:blipFill>
        <p:spPr>
          <a:xfrm>
            <a:off x="6443640" y="4038480"/>
            <a:ext cx="425520" cy="457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38" descr="鱼"/>
          <p:cNvPicPr/>
          <p:nvPr/>
        </p:nvPicPr>
        <p:blipFill>
          <a:blip r:embed="rId5"/>
          <a:stretch/>
        </p:blipFill>
        <p:spPr>
          <a:xfrm>
            <a:off x="6443640" y="4800600"/>
            <a:ext cx="496800" cy="5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39" descr="鱼"/>
          <p:cNvPicPr/>
          <p:nvPr/>
        </p:nvPicPr>
        <p:blipFill>
          <a:blip r:embed="rId6"/>
          <a:stretch/>
        </p:blipFill>
        <p:spPr>
          <a:xfrm>
            <a:off x="5796000" y="5386320"/>
            <a:ext cx="496800" cy="533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40" descr="鱼"/>
          <p:cNvPicPr/>
          <p:nvPr/>
        </p:nvPicPr>
        <p:blipFill>
          <a:blip r:embed="rId7"/>
          <a:stretch/>
        </p:blipFill>
        <p:spPr>
          <a:xfrm>
            <a:off x="6516720" y="19890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41" descr="line%2D3"/>
          <p:cNvPicPr/>
          <p:nvPr/>
        </p:nvPicPr>
        <p:blipFill>
          <a:blip r:embed="rId8"/>
          <a:stretch/>
        </p:blipFill>
        <p:spPr>
          <a:xfrm>
            <a:off x="1406520" y="6095880"/>
            <a:ext cx="712800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26"/>
          <p:cNvSpPr/>
          <p:nvPr/>
        </p:nvSpPr>
        <p:spPr>
          <a:xfrm>
            <a:off x="4366440" y="3571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六、发生自然灾害时的自护自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027"/>
          <p:cNvSpPr/>
          <p:nvPr/>
        </p:nvSpPr>
        <p:spPr>
          <a:xfrm>
            <a:off x="2057400" y="1905120"/>
            <a:ext cx="53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地震发生时怎样保护自己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028"/>
          <p:cNvSpPr/>
          <p:nvPr/>
        </p:nvSpPr>
        <p:spPr>
          <a:xfrm>
            <a:off x="4281480" y="28954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怎样减轻热带风暴的危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029"/>
          <p:cNvSpPr/>
          <p:nvPr/>
        </p:nvSpPr>
        <p:spPr>
          <a:xfrm>
            <a:off x="4352760" y="39337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外出时如何避免遭受雷击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030" descr="image30"/>
          <p:cNvPicPr/>
          <p:nvPr/>
        </p:nvPicPr>
        <p:blipFill>
          <a:blip r:embed="rId1"/>
          <a:stretch/>
        </p:blipFill>
        <p:spPr>
          <a:xfrm>
            <a:off x="6934320" y="1905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31" descr="image30"/>
          <p:cNvPicPr/>
          <p:nvPr/>
        </p:nvPicPr>
        <p:blipFill>
          <a:blip r:embed="rId2"/>
          <a:stretch/>
        </p:blipFill>
        <p:spPr>
          <a:xfrm>
            <a:off x="708660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32" descr="image30"/>
          <p:cNvPicPr/>
          <p:nvPr/>
        </p:nvPicPr>
        <p:blipFill>
          <a:blip r:embed="rId3"/>
          <a:stretch/>
        </p:blipFill>
        <p:spPr>
          <a:xfrm>
            <a:off x="7184880" y="3967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34" descr="line27"/>
          <p:cNvPicPr/>
          <p:nvPr/>
        </p:nvPicPr>
        <p:blipFill>
          <a:blip r:embed="rId4"/>
          <a:stretch/>
        </p:blipFill>
        <p:spPr>
          <a:xfrm>
            <a:off x="990720" y="5562720"/>
            <a:ext cx="7162560" cy="3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464120" y="228600"/>
            <a:ext cx="14601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珍惜生命，爱护生命，毕竟他只有一次，不可以像男生打游戏机那样就算是</a:t>
            </a:r>
            <a:r>
              <a:rPr b="1" lang="en-US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game over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也可以无限次的重来，也不像女生看</a:t>
            </a:r>
            <a:r>
              <a:rPr b="1" lang="en-US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vcd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可以无限次的倒带。生命只有一次！　千万不要拿自己这唯一一次的生命开玩笑！　珍惜生命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宋体"/>
              </a:rPr>
              <a:t>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" descr="sunshine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7T04:23:43Z</dcterms:created>
  <dc:creator/>
  <dc:description/>
  <dc:language>en-US</dc:language>
  <cp:lastModifiedBy>cpzxsxz</cp:lastModifiedBy>
  <dcterms:modified xsi:type="dcterms:W3CDTF">2018-08-07T06:02:2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8</vt:lpwstr>
  </property>
</Properties>
</file>